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CFEC-1536-478E-A3B1-5EDA97040C53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3622-3467-4A53-A4E9-ECB7595C3B11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F387-5C27-46DD-A642-1FCEAF695709}" type="slidenum">
              <a:rPr b="0" lang="da-DK" sz="1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04D1-6D9C-411E-A687-FFEC7D950C2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Modarbejder opmærksomehds-K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A7F5-587D-43A6-B455-D02668C3023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95FB-35BA-4C31-ACBE-8BFFF4606D6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9598-440C-4900-BA73-80CDB78979E0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CA9-D64E-47D3-8EFC-707F03CF40DA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1BBD-8FD4-4342-A88E-5E38BDB689F9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D4E-5B67-4BF2-9760-77850020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D05-F279-4AC9-AE9A-F6B7ED2C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BBA-2AED-458B-9FD7-CEAB7532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070-6BEE-436B-B40D-5AF85B11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C23-3192-484E-BCE6-7F24B8D9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063-9F8E-4245-82C4-BB983D0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764-930B-4CC1-A2DC-3C2A7140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649-C3F5-4AE9-B1C7-D79A2364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474-28A1-433C-8805-6C5409E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8FF-685A-4E0C-8932-3B128D62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83C-DB14-49C9-95F5-7B90E03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AE4-7552-474F-8A57-F006D5A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>
            <a:alpha val="2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D7F3-065B-4F1D-BB11-BC493E30B92E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Billede 1" descr=""/>
          <p:cNvPicPr/>
          <p:nvPr/>
        </p:nvPicPr>
        <p:blipFill>
          <a:blip r:embed="rId2"/>
          <a:stretch/>
        </p:blipFill>
        <p:spPr>
          <a:xfrm>
            <a:off x="-22320" y="6453360"/>
            <a:ext cx="9363240" cy="20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80"/>
            <a:ext cx="7847280" cy="34275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Verdana"/>
              </a:rPr>
              <a:t>Metakognitiv behandling til børn med generaliseret ang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962680" y="3933720"/>
            <a:ext cx="11952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7236000" y="3068640"/>
            <a:ext cx="1090440" cy="2876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468360" y="3429000"/>
            <a:ext cx="40924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samling og status på forlø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ældreworksho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485040" y="6478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Center for Ang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-11160" y="285264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6300720" y="1890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viklet på baggrund af teori og terapi til voksne (Wells,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37680" cy="850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år børn går i ter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97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idst talte vi om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HVAD I KAN GØ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Pas på med bjørnetjenes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ad være at bekræfte og diskut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uk snak om bekymring 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Øg motivation ved at være positive og engagere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Ros fremgang og modig adfæ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ordan går det med det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er stadig svæ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har I ændret siden sid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-11160" y="1216080"/>
            <a:ext cx="914400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50920"/>
            <a:ext cx="8437680" cy="1162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lutning og evalu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640" y="1699920"/>
            <a:ext cx="6985080" cy="4282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54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pørgsmål og kommentar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 spørgsmål i fremtiden, kontakt os på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(indsæt terapeuts kontaktoplysning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illede 1" descr=""/>
          <p:cNvPicPr/>
          <p:nvPr/>
        </p:nvPicPr>
        <p:blipFill>
          <a:blip r:embed="rId1"/>
          <a:stretch/>
        </p:blipFill>
        <p:spPr>
          <a:xfrm>
            <a:off x="7178760" y="2852640"/>
            <a:ext cx="18572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gs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60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i famil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ordan vedligeholdes ang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d kan børnene selv gø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d kan I som forældre gøre for at hjælpe jeres barn med at kæmpe mod angst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og andre spørgsmå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i famili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ordan går det med ba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ordan går det med famili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ilke fremskridt oplever 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d mangler 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4"/>
          <p:cNvSpPr/>
          <p:nvPr/>
        </p:nvSpPr>
        <p:spPr>
          <a:xfrm>
            <a:off x="144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43768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et kognitive opmærksomhedssyndrom (KOK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OPMÆRKSOM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fokuse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russelsovervå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søge at være på fork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TÆNK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edvarende bekymring og grubler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ver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dfylde huller i hukommel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ADFÆ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ndgåel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øge beroligelse hos foræld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berolig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istrak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ankeundertrykkelse, f.eks. tænke positiv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ede efter bevi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Nedsat aktivitetsniv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384960" y="3267000"/>
            <a:ext cx="1363680" cy="3167280"/>
          </a:xfrm>
          <a:prstGeom prst="rect">
            <a:avLst/>
          </a:prstGeom>
          <a:ln w="0">
            <a:noFill/>
          </a:ln>
        </p:spPr>
      </p:pic>
      <p:sp>
        <p:nvSpPr>
          <p:cNvPr id="65" name="Cloud Callout 1"/>
          <p:cNvSpPr/>
          <p:nvPr/>
        </p:nvSpPr>
        <p:spPr>
          <a:xfrm>
            <a:off x="7093080" y="1916280"/>
            <a:ext cx="1655640" cy="1152360"/>
          </a:xfrm>
          <a:prstGeom prst="cloudCallout">
            <a:avLst>
              <a:gd name="adj1" fmla="val -42768"/>
              <a:gd name="adj2" fmla="val 63208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7219800" y="208584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is jeg holder øje, sker der mig ikke no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 Callout 3"/>
          <p:cNvSpPr/>
          <p:nvPr/>
        </p:nvSpPr>
        <p:spPr>
          <a:xfrm>
            <a:off x="4859280" y="1916280"/>
            <a:ext cx="2016360" cy="1296720"/>
          </a:xfrm>
          <a:prstGeom prst="cloudCallout">
            <a:avLst>
              <a:gd name="adj1" fmla="val 49560"/>
              <a:gd name="adj2" fmla="val 51365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183280" y="2043000"/>
            <a:ext cx="136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e min mor svarer hurtigt på min sms, så jeg ved, at hun er ok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-11160" y="12556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37680" cy="850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-teknik består af disse to d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2680" y="5732280"/>
            <a:ext cx="8713800" cy="533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 er en ny måde at forholde sig til tanker og billeder i hoved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4"/>
          <p:cNvSpPr/>
          <p:nvPr/>
        </p:nvSpPr>
        <p:spPr>
          <a:xfrm>
            <a:off x="-11160" y="1165320"/>
            <a:ext cx="914400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7240" y="1773360"/>
          <a:ext cx="7747200" cy="3476520"/>
        </p:xfrm>
        <a:graphic>
          <a:graphicData uri="http://schemas.openxmlformats.org/drawingml/2006/table">
            <a:tbl>
              <a:tblPr/>
              <a:tblGrid>
                <a:gridCol w="3848400"/>
                <a:gridCol w="3898800"/>
              </a:tblGrid>
              <a:tr h="58104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tached (frakobl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dfulness (opmærksomh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195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kke at reagere p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være opmærksom på </a:t>
                      </a:r>
                      <a:br>
                        <a:rPr sz="2000"/>
                      </a:b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stedeværelsen af tanke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0984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kke at engagere sig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erkende, at tanken er 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224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kke at forholde sig t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metakognitiv tilg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28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ken er adskilt fra en sel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709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 observerer tanken på af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3768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har vi kontrol ov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2440" y="2133720"/>
          <a:ext cx="7899120" cy="3359160"/>
        </p:xfrm>
        <a:graphic>
          <a:graphicData uri="http://schemas.openxmlformats.org/drawingml/2006/table">
            <a:tbl>
              <a:tblPr/>
              <a:tblGrid>
                <a:gridCol w="4000320"/>
                <a:gridCol w="3898800"/>
              </a:tblGrid>
              <a:tr h="7588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 har kontrol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 har ikke kontrol 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285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handlin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j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760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opmærksom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 mennes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573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bekym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g, der sker omkring 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3828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 vi vælger at tænke det igen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57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res triggertan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1360" marR="936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3768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Øvel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97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Brug 10 minutter på at svare på spørgsmåle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Er der ting i hjemmet, som vedligeholder KO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Gør I noget, som kan tænkes at vedligeholde KO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psamling i ple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4"/>
          <p:cNvSpPr/>
          <p:nvPr/>
        </p:nvSpPr>
        <p:spPr>
          <a:xfrm>
            <a:off x="-11160" y="126828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2240"/>
            <a:ext cx="843768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 nedenfor: Hvad forekommer hos j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268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OPMÆRKSOM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fokuser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russelsovervå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Forsøge at være på fork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TÆNK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edvarende bekymring og grubler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ver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dfylde huller i hukommel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00"/>
                </a:solidFill>
                <a:uFillTx/>
                <a:latin typeface="Times New Roman"/>
                <a:ea typeface="ヒラギノ明朝 ProN W3"/>
              </a:rPr>
              <a:t>ADFÆ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ndgåel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øge beroligelse hos foræld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Selvberolig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istrak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ankeundertrykkelse, f.eks. tænke positiv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Lede efter bevi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Nedsat aktivitetsnive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6384960" y="3267000"/>
            <a:ext cx="1363680" cy="3167280"/>
          </a:xfrm>
          <a:prstGeom prst="rect">
            <a:avLst/>
          </a:prstGeom>
          <a:ln w="0">
            <a:noFill/>
          </a:ln>
        </p:spPr>
      </p:pic>
      <p:sp>
        <p:nvSpPr>
          <p:cNvPr id="83" name="Cloud Callout 1"/>
          <p:cNvSpPr/>
          <p:nvPr/>
        </p:nvSpPr>
        <p:spPr>
          <a:xfrm>
            <a:off x="7093080" y="1916280"/>
            <a:ext cx="1655640" cy="1152360"/>
          </a:xfrm>
          <a:prstGeom prst="cloudCallout">
            <a:avLst>
              <a:gd name="adj1" fmla="val -42768"/>
              <a:gd name="adj2" fmla="val 63208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7219800" y="2085840"/>
            <a:ext cx="13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is jeg holder øje, sker der mig ikke no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 Callout 3"/>
          <p:cNvSpPr/>
          <p:nvPr/>
        </p:nvSpPr>
        <p:spPr>
          <a:xfrm>
            <a:off x="4859280" y="1916280"/>
            <a:ext cx="2016360" cy="1296720"/>
          </a:xfrm>
          <a:prstGeom prst="cloudCallout">
            <a:avLst>
              <a:gd name="adj1" fmla="val 49560"/>
              <a:gd name="adj2" fmla="val 51365"/>
            </a:avLst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183280" y="2043000"/>
            <a:ext cx="136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e min mor svarer hurtigt på min sms, så jeg ved, at hun er ok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-11160" y="1077840"/>
            <a:ext cx="9144000" cy="1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3768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da-DK" sz="4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Øvel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97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Det er lettere for jer at støtte jeres barn, hvis I selv kan udføre DM på egne bekymri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Vælg en DM-teknik og en nylig bekym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Identificer trigg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Begynd at bekymre d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Prøv efter lidt tid at bruge DM-teknik på trigg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Hvad skete d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Opsamling i ple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4"/>
          <p:cNvSpPr/>
          <p:nvPr/>
        </p:nvSpPr>
        <p:spPr>
          <a:xfrm>
            <a:off x="-11160" y="1208160"/>
            <a:ext cx="9144000" cy="14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08:06:20Z</dcterms:created>
  <dc:creator>Nicoline Normann</dc:creator>
  <dc:description/>
  <dc:language>en-US</dc:language>
  <cp:lastModifiedBy>Sørensen, Kristina DK - LRI</cp:lastModifiedBy>
  <cp:lastPrinted>2014-04-10T06:44:05Z</cp:lastPrinted>
  <dcterms:modified xsi:type="dcterms:W3CDTF">2016-04-11T11:29:55Z</dcterms:modified>
  <cp:revision>38</cp:revision>
  <dc:subject/>
  <dc:title>Metakognitiv behandling til børn med generaliseret angst</dc:title>
</cp:coreProperties>
</file>